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B89-7120-4343-A0E6-E07FB6A9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F7CC-05D6-43D9-820E-41EAF05531EC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D41E-1E49-45C9-AA5B-E644D4D52C38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BD7B-5893-416A-970B-B900A899CC5B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EECA-AA36-45FC-B8CC-DA10D54587C8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E2DA-8561-473D-B5E3-032184A5F014}" type="slidenum">
              <a:rPr b="0" lang="en-US" sz="12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B18-BD91-4197-AF0A-CE3B23B7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3D1-7113-4CED-ABFE-FC3FF93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3D2-01B3-400E-BAFC-266E5DE3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1D0-FA1A-4793-960E-B3BDF44D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D2F-2258-4364-B34C-CA10C0AB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A5A-AE41-4CE3-9FCE-558F973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07D-7C3F-405C-BB6C-C540DC94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917-55C5-40B8-878B-F08409F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096-95F4-4126-B86F-E210B70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1C9-6E81-45E0-A555-C034BAF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4EE-2339-4F3D-9D8E-8D925FF3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24E-2598-42CF-94C4-68323BE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ff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1ff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1ff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ff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ff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ff4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8F80-78B6-4919-B02B-607F29D9B23C}" type="slidenum">
              <a:rPr b="0" lang="en-US" sz="1400" spc="-1" strike="noStrike">
                <a:solidFill>
                  <a:srgbClr val="d1ff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olidays_in_Poland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By Noel and Ashlyn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d1ff4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period 6</a:t>
            </a:r>
            <a:r>
              <a:rPr b="0" lang="en-US" sz="3200" spc="-1" strike="noStrike" baseline="30000">
                <a:solidFill>
                  <a:srgbClr val="d1ff4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grade geography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Randolph school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Interesting Facts</a:t>
            </a:r>
            <a:br>
              <a:rPr sz="4000"/>
            </a:br>
            <a:endParaRPr b="0" lang="en-US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apital is Warsaw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urrency is Zlotys,groszy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ife expectancy Female 79 Male 71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op is 38 million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nguage is Polish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irth rate 10.01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ath rate 9.99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ystem: democracy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f47"/>
                </a:solidFill>
                <a:latin typeface="Arial"/>
              </a:rPr>
              <a:t>Tatra: 6,600 ft part of the Carpathian range</a:t>
            </a: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f47"/>
                </a:solidFill>
                <a:latin typeface="Arial"/>
              </a:rPr>
              <a:t>Beskeds:5,660 ft</a:t>
            </a: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ff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1ff4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ee full size image"/>
          <p:cNvPicPr/>
          <p:nvPr/>
        </p:nvPicPr>
        <p:blipFill>
          <a:blip r:embed="rId2"/>
          <a:stretch/>
        </p:blipFill>
        <p:spPr>
          <a:xfrm>
            <a:off x="914400" y="44956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ivers and Lakes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Warta:502mi               -Sniardwy: Largest                  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Vistula:651mi              in Poland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- one of the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countries with the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most lakes                                                          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572000" y="1676520"/>
            <a:ext cx="0" cy="449568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othing and Food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4 meals a day                  Day to day clothing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rolls, butter, jam, tea        is similar to USA’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soup, stuffed meat, fish    except Cracow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pork chops, cabbage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c0c0c"/>
                </a:solidFill>
                <a:latin typeface="Arial"/>
              </a:rPr>
              <a:t>sandwiches, pastry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724280" y="1676520"/>
            <a:ext cx="0" cy="457200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533160" y="1676520"/>
            <a:ext cx="419076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33520" y="1676520"/>
            <a:ext cx="0" cy="464796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533520" y="6400800"/>
            <a:ext cx="403848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572000" y="6400800"/>
            <a:ext cx="457200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4724280" y="1676520"/>
            <a:ext cx="4419720" cy="0"/>
          </a:xfrm>
          <a:prstGeom prst="line">
            <a:avLst/>
          </a:prstGeom>
          <a:ln w="9360">
            <a:solidFill>
              <a:srgbClr val="d1f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ls, Sports &amp; Music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ts of wild life         -Play the same sport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atra                        as USA.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north forests            -winter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summer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edric Chopin was   most popular sport i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famous composer     soccer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the 1800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ke the same music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1600200"/>
            <a:ext cx="0" cy="472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 flipV="1">
            <a:off x="380880" y="3962520"/>
            <a:ext cx="41148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Most holidays are like ours but some are different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ff47"/>
                </a:solidFill>
                <a:latin typeface="Arial"/>
              </a:rPr>
              <a:t>Polish air force day: August 31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Bibliography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Websites                     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http://en.wikipedia.org/wiki/Poland</a:t>
            </a:r>
            <a:endParaRPr b="0" lang="en-US" sz="2400" spc="-1" strike="noStrike">
              <a:solidFill>
                <a:srgbClr val="d1ff4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bf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olidays_in_Poland</a:t>
            </a:r>
            <a:endParaRPr b="0" lang="en-US" sz="24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f03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Countries of the world Poland(p.7,13-21)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by Suzanne paul Dell’Oro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Poland(p.110,132)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4bf030"/>
                </a:solidFill>
                <a:latin typeface="Arial"/>
              </a:rPr>
              <a:t>by Martin Hintz</a:t>
            </a: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47:00Z</dcterms:created>
  <dc:creator>ashlynanderson and noelestopinal</dc:creator>
  <dc:description/>
  <dc:language>en-US</dc:language>
  <cp:lastModifiedBy>ashlynanderson and noelestopinal</cp:lastModifiedBy>
  <dcterms:modified xsi:type="dcterms:W3CDTF">2009-02-12T19:07:16Z</dcterms:modified>
  <cp:revision>9</cp:revision>
  <dc:subject/>
  <dc:title>Poland</dc:title>
</cp:coreProperties>
</file>